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3C4F0-AB7C-4113-928A-8A90F26F73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236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1980720"/>
            <a:ext cx="7618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371600" y="4528080"/>
            <a:ext cx="7618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9BE9B-6D52-4BB0-823F-90350B1EC1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236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1980720"/>
            <a:ext cx="3717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75440" y="1980720"/>
            <a:ext cx="3717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4528080"/>
            <a:ext cx="3717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275440" y="4528080"/>
            <a:ext cx="3717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457B6-F018-40A1-A6BA-A6323637A9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236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1980720"/>
            <a:ext cx="2452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47400" y="1980720"/>
            <a:ext cx="2452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22840" y="1980720"/>
            <a:ext cx="2452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371600" y="4528080"/>
            <a:ext cx="2452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947400" y="4528080"/>
            <a:ext cx="2452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22840" y="4528080"/>
            <a:ext cx="2452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E4678-3BEA-45A5-A4E9-758F8BF4F2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EC98F-3174-4493-9F04-44CE180333B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236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76183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8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6CE6F-A517-4C64-8082-883A5722C75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236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1980720"/>
            <a:ext cx="761832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B0DC0-9274-48CE-85CE-AE66D9E8BE3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236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1980720"/>
            <a:ext cx="371772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275440" y="1980720"/>
            <a:ext cx="371772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06360-71CA-4B18-8FBC-9A704568189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236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76CA8-B973-4DBD-8D2C-EC8EB443E2B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371240" y="228600"/>
            <a:ext cx="754236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8D661-A50D-4BCF-8893-CCCCCEC42C5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236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1980720"/>
            <a:ext cx="3717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5440" y="1980720"/>
            <a:ext cx="371772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71600" y="4528080"/>
            <a:ext cx="3717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D7A2C-48A8-49D1-9706-31B8718E09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236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76183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8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0EDBA-0D64-4E25-9161-ED15D96C3C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236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1980720"/>
            <a:ext cx="371772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75440" y="1980720"/>
            <a:ext cx="3717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275440" y="4528080"/>
            <a:ext cx="3717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7C760-988C-4184-B015-CA2B0DC9323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236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1980720"/>
            <a:ext cx="3717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75440" y="1980720"/>
            <a:ext cx="3717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528080"/>
            <a:ext cx="7618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A63D6-22FC-4602-85F3-AEE0BABAB90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236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1980720"/>
            <a:ext cx="7618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371600" y="4528080"/>
            <a:ext cx="7618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EE417-096A-456B-BDF6-D5A155D2391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236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1980720"/>
            <a:ext cx="3717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5440" y="1980720"/>
            <a:ext cx="3717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528080"/>
            <a:ext cx="3717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275440" y="4528080"/>
            <a:ext cx="3717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4C527-5EDA-466E-896F-0411AF194DE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236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1980720"/>
            <a:ext cx="2452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947400" y="1980720"/>
            <a:ext cx="2452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522840" y="1980720"/>
            <a:ext cx="2452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371600" y="4528080"/>
            <a:ext cx="2452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947400" y="4528080"/>
            <a:ext cx="2452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522840" y="4528080"/>
            <a:ext cx="245268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4D1D0-AFE4-4713-9C27-30059BC06C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236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371600" y="1980720"/>
            <a:ext cx="761832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041A3-51EF-4707-BCA1-9E217EB3BF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236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1980720"/>
            <a:ext cx="371772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275440" y="1980720"/>
            <a:ext cx="371772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0429C-C9F2-4CED-A7D8-B90005C4BC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236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86740-BE12-483A-AA0F-EFCCB5C3BA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371240" y="228600"/>
            <a:ext cx="754236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9DF74-D379-41A3-990E-FCA942E254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236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1980720"/>
            <a:ext cx="3717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75440" y="1980720"/>
            <a:ext cx="371772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371600" y="4528080"/>
            <a:ext cx="3717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AD2F9-9278-4F26-AD4E-7F4C393D3C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236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1980720"/>
            <a:ext cx="371772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5440" y="1980720"/>
            <a:ext cx="3717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275440" y="4528080"/>
            <a:ext cx="3717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0BBC2-EC5C-4690-871E-B877D99E0B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236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1980720"/>
            <a:ext cx="3717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5440" y="1980720"/>
            <a:ext cx="37177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71600" y="4528080"/>
            <a:ext cx="761832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37944-3A98-41A0-AD87-23F121B773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80920" y="685440"/>
            <a:ext cx="5559480" cy="335124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7357680" y="6248160"/>
            <a:ext cx="2919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67A74-BAEC-45E5-BBD1-CABDB4EF8460}" type="slidenum">
              <a:rPr b="0" lang="en-US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54236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Num" idx="2"/>
          </p:nvPr>
        </p:nvSpPr>
        <p:spPr>
          <a:xfrm>
            <a:off x="8003880" y="6248160"/>
            <a:ext cx="36828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3F9EC-5343-4C8B-8E07-C70A76EFAF1D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body"/>
          </p:nvPr>
        </p:nvSpPr>
        <p:spPr>
          <a:xfrm>
            <a:off x="1371600" y="1980720"/>
            <a:ext cx="761832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16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8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8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8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8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8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8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81280" y="541080"/>
            <a:ext cx="5561280" cy="3639960"/>
          </a:xfrm>
          <a:prstGeom prst="rect">
            <a:avLst/>
          </a:prstGeom>
          <a:noFill/>
          <a:ln w="0">
            <a:noFill/>
          </a:ln>
        </p:spPr>
        <p:txBody>
          <a:bodyPr lIns="50760" rIns="32040" tIns="50760" bIns="50760" anchor="ctr">
            <a:noAutofit/>
          </a:bodyPr>
          <a:p>
            <a:pPr marL="41400" indent="0" algn="ctr">
              <a:lnSpc>
                <a:spcPct val="100000"/>
              </a:lnSpc>
              <a:buNone/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9728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Arial"/>
              </a:rPr>
              <a:t>Geography Terms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183280" y="4181400"/>
            <a:ext cx="39607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3240" tIns="0" bIns="0" anchor="ctr">
            <a:normAutofit/>
          </a:bodyPr>
          <a:p>
            <a:pPr marL="38160" indent="0" algn="ctr">
              <a:lnSpc>
                <a:spcPct val="100000"/>
              </a:lnSpc>
              <a:buNone/>
              <a:tabLst>
                <a:tab algn="l" pos="0"/>
                <a:tab algn="l" pos="88920"/>
                <a:tab algn="l" pos="1003320"/>
                <a:tab algn="l" pos="1917720"/>
                <a:tab algn="l" pos="2832120"/>
                <a:tab algn="l" pos="3746520"/>
                <a:tab algn="l" pos="4660920"/>
                <a:tab algn="l" pos="5575320"/>
                <a:tab algn="l" pos="6489720"/>
                <a:tab algn="l" pos="7404120"/>
                <a:tab algn="l" pos="8318520"/>
                <a:tab algn="l" pos="9232920"/>
                <a:tab algn="l" pos="10147320"/>
                <a:tab algn="l" pos="11023560"/>
                <a:tab algn="l" pos="1192536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Arial"/>
              </a:rPr>
              <a:t>Grad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1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8920"/>
                <a:tab algn="l" pos="1003320"/>
                <a:tab algn="l" pos="1917720"/>
                <a:tab algn="l" pos="2832120"/>
                <a:tab algn="l" pos="3746520"/>
                <a:tab algn="l" pos="4660920"/>
                <a:tab algn="l" pos="5575320"/>
                <a:tab algn="l" pos="6489720"/>
                <a:tab algn="l" pos="7404120"/>
                <a:tab algn="l" pos="8318520"/>
                <a:tab algn="l" pos="9232920"/>
                <a:tab algn="l" pos="10147320"/>
                <a:tab algn="l" pos="11023560"/>
                <a:tab algn="l" pos="1192536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Arial"/>
              </a:rPr>
              <a:t>Social Stud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227160"/>
            <a:ext cx="7543800" cy="1753920"/>
          </a:xfrm>
          <a:prstGeom prst="rect">
            <a:avLst/>
          </a:prstGeom>
          <a:noFill/>
          <a:ln w="0">
            <a:noFill/>
          </a:ln>
        </p:spPr>
        <p:txBody>
          <a:bodyPr lIns="50760" rIns="32040" tIns="50760" bIns="50760" anchor="ctr">
            <a:noAutofit/>
          </a:bodyPr>
          <a:p>
            <a:pPr marL="41400" indent="0" algn="ctr">
              <a:lnSpc>
                <a:spcPct val="100000"/>
              </a:lnSpc>
              <a:buNone/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972800"/>
              </a:tabLst>
            </a:pPr>
            <a:r>
              <a:rPr b="0" lang="en-US" sz="4400" spc="-1" strike="noStrike">
                <a:solidFill>
                  <a:srgbClr val="0044fe"/>
                </a:solidFill>
                <a:latin typeface="Arial"/>
              </a:rPr>
              <a:t>Plain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27720" tIns="50760" bIns="50760" anchor="t">
            <a:normAutofit/>
          </a:bodyPr>
          <a:p>
            <a:pPr marL="379440" indent="-341280">
              <a:lnSpc>
                <a:spcPct val="100000"/>
              </a:lnSpc>
              <a:buClr>
                <a:srgbClr val="996600"/>
              </a:buClr>
              <a:buFont typeface="Wingdings" charset="2"/>
              <a:buChar char=""/>
              <a:tabLst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9728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lat lands that have small changes in elevation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590920" y="3200400"/>
            <a:ext cx="502920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32040" tIns="50760" bIns="50760" anchor="ctr">
            <a:noAutofit/>
          </a:bodyPr>
          <a:p>
            <a:pPr marL="41400" indent="0" algn="ctr">
              <a:lnSpc>
                <a:spcPct val="100000"/>
              </a:lnSpc>
              <a:buNone/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972800"/>
              </a:tabLst>
            </a:pPr>
            <a:r>
              <a:rPr b="0" lang="en-US" sz="4400" spc="-1" strike="noStrike">
                <a:solidFill>
                  <a:srgbClr val="003dcc"/>
                </a:solidFill>
                <a:latin typeface="Arial"/>
              </a:rPr>
              <a:t>Cliff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33920" cy="4495680"/>
          </a:xfrm>
          <a:prstGeom prst="rect">
            <a:avLst/>
          </a:prstGeom>
          <a:noFill/>
          <a:ln w="0">
            <a:noFill/>
          </a:ln>
        </p:spPr>
        <p:txBody>
          <a:bodyPr lIns="50760" rIns="27720" tIns="50760" bIns="50760" anchor="t">
            <a:normAutofit/>
          </a:bodyPr>
          <a:p>
            <a:pPr marL="379440" indent="-341280">
              <a:lnSpc>
                <a:spcPct val="100000"/>
              </a:lnSpc>
              <a:buClr>
                <a:srgbClr val="996600"/>
              </a:buClr>
              <a:buFont typeface="Wingdings" charset="2"/>
              <a:buChar char=""/>
              <a:tabLst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9728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 steep face of rock and soi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800600" y="1447920"/>
            <a:ext cx="419112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32040" tIns="50760" bIns="50760" anchor="ctr">
            <a:noAutofit/>
          </a:bodyPr>
          <a:p>
            <a:pPr marL="41400" indent="0" algn="ctr">
              <a:lnSpc>
                <a:spcPct val="100000"/>
              </a:lnSpc>
              <a:buNone/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972800"/>
              </a:tabLst>
            </a:pPr>
            <a:r>
              <a:rPr b="0" lang="en-US" sz="4400" spc="-1" strike="noStrike">
                <a:solidFill>
                  <a:srgbClr val="003dcc"/>
                </a:solidFill>
                <a:latin typeface="Arial"/>
              </a:rPr>
              <a:t>Canyon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00200" y="1676160"/>
            <a:ext cx="6477120" cy="5181480"/>
          </a:xfrm>
          <a:prstGeom prst="rect">
            <a:avLst/>
          </a:prstGeom>
          <a:noFill/>
          <a:ln w="0">
            <a:noFill/>
          </a:ln>
        </p:spPr>
        <p:txBody>
          <a:bodyPr lIns="50760" rIns="27720" tIns="50760" bIns="50760" anchor="t">
            <a:normAutofit/>
          </a:bodyPr>
          <a:p>
            <a:pPr marL="379440" indent="-341280">
              <a:lnSpc>
                <a:spcPct val="100000"/>
              </a:lnSpc>
              <a:buClr>
                <a:srgbClr val="996600"/>
              </a:buClr>
              <a:buFont typeface="Wingdings" charset="2"/>
              <a:buChar char=""/>
              <a:tabLst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9728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 deep valley with very steep sid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952880" y="3429000"/>
            <a:ext cx="321012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32040" tIns="50760" bIns="50760" anchor="ctr">
            <a:noAutofit/>
          </a:bodyPr>
          <a:p>
            <a:pPr marL="41400" indent="0" algn="ctr">
              <a:lnSpc>
                <a:spcPct val="100000"/>
              </a:lnSpc>
              <a:buNone/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972800"/>
              </a:tabLst>
            </a:pPr>
            <a:r>
              <a:rPr b="0" lang="en-US" sz="4400" spc="-1" strike="noStrike">
                <a:solidFill>
                  <a:srgbClr val="0044fe"/>
                </a:solidFill>
                <a:latin typeface="Arial"/>
              </a:rPr>
              <a:t>Glacier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50760" rIns="27720" tIns="50760" bIns="50760" anchor="t">
            <a:normAutofit/>
          </a:bodyPr>
          <a:p>
            <a:pPr marL="379440" indent="-341280">
              <a:lnSpc>
                <a:spcPct val="100000"/>
              </a:lnSpc>
              <a:buClr>
                <a:srgbClr val="996600"/>
              </a:buClr>
              <a:buFont typeface="Wingdings" charset="2"/>
              <a:buChar char=""/>
              <a:tabLst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9728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low moving river of 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371600" y="2590920"/>
            <a:ext cx="77724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32040" tIns="50760" bIns="50760" anchor="ctr">
            <a:noAutofit/>
          </a:bodyPr>
          <a:p>
            <a:pPr marL="41400" indent="0" algn="ctr">
              <a:lnSpc>
                <a:spcPct val="100000"/>
              </a:lnSpc>
              <a:buNone/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972800"/>
              </a:tabLst>
            </a:pPr>
            <a:r>
              <a:rPr b="0" lang="en-US" sz="4400" spc="-1" strike="noStrike">
                <a:solidFill>
                  <a:srgbClr val="003dcc"/>
                </a:solidFill>
                <a:latin typeface="Arial"/>
              </a:rPr>
              <a:t>Mountain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240" y="152352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lIns="50760" rIns="27720" tIns="50760" bIns="50760" anchor="t">
            <a:normAutofit/>
          </a:bodyPr>
          <a:p>
            <a:pPr marL="379440" indent="-341280">
              <a:lnSpc>
                <a:spcPct val="100000"/>
              </a:lnSpc>
              <a:buClr>
                <a:srgbClr val="996600"/>
              </a:buClr>
              <a:buFont typeface="Wingdings" charset="2"/>
              <a:buChar char=""/>
              <a:tabLst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9728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Very tall--natural place on Ear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9440" indent="-341280">
              <a:lnSpc>
                <a:spcPct val="100000"/>
              </a:lnSpc>
              <a:buClr>
                <a:srgbClr val="996600"/>
              </a:buClr>
              <a:buFont typeface="Wingdings" charset="2"/>
              <a:buChar char=""/>
              <a:tabLst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9728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allest mountain on Earth is Mt. Evere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572000" y="3581280"/>
            <a:ext cx="41148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227160"/>
            <a:ext cx="7543800" cy="1753920"/>
          </a:xfrm>
          <a:prstGeom prst="rect">
            <a:avLst/>
          </a:prstGeom>
          <a:noFill/>
          <a:ln w="0">
            <a:noFill/>
          </a:ln>
        </p:spPr>
        <p:txBody>
          <a:bodyPr lIns="50760" rIns="32040" tIns="50760" bIns="50760" anchor="ctr">
            <a:noAutofit/>
          </a:bodyPr>
          <a:p>
            <a:pPr marL="41400" indent="0" algn="ctr">
              <a:lnSpc>
                <a:spcPct val="100000"/>
              </a:lnSpc>
              <a:buNone/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972800"/>
              </a:tabLst>
            </a:pPr>
            <a:r>
              <a:rPr b="0" lang="en-US" sz="4400" spc="-1" strike="noStrike">
                <a:solidFill>
                  <a:srgbClr val="0044fe"/>
                </a:solidFill>
                <a:latin typeface="Arial"/>
              </a:rPr>
              <a:t>Oasis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1980720"/>
            <a:ext cx="373392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27720" tIns="50760" bIns="50760" anchor="t">
            <a:normAutofit/>
          </a:bodyPr>
          <a:p>
            <a:pPr marL="380880" indent="0">
              <a:lnSpc>
                <a:spcPct val="100000"/>
              </a:lnSpc>
              <a:buNone/>
              <a:tabLst>
                <a:tab algn="l" pos="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9728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9728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mall fertile area surrounded by dese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373392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214200"/>
            <a:ext cx="7543800" cy="1779840"/>
          </a:xfrm>
          <a:prstGeom prst="rect">
            <a:avLst/>
          </a:prstGeom>
          <a:noFill/>
          <a:ln w="0">
            <a:noFill/>
          </a:ln>
        </p:spPr>
        <p:txBody>
          <a:bodyPr lIns="50760" rIns="32040" tIns="50760" bIns="50760" anchor="ctr">
            <a:noAutofit/>
          </a:bodyPr>
          <a:p>
            <a:pPr marL="41400" indent="0" algn="ctr">
              <a:lnSpc>
                <a:spcPct val="100000"/>
              </a:lnSpc>
              <a:buNone/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972800"/>
              </a:tabLst>
            </a:pPr>
            <a:r>
              <a:rPr b="0" lang="en-US" sz="4400" spc="-1" strike="noStrike">
                <a:solidFill>
                  <a:srgbClr val="0044fe"/>
                </a:solidFill>
                <a:latin typeface="Arial"/>
              </a:rPr>
              <a:t>Peninsula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1994040"/>
            <a:ext cx="3733920" cy="4876560"/>
          </a:xfrm>
          <a:prstGeom prst="rect">
            <a:avLst/>
          </a:prstGeom>
          <a:noFill/>
          <a:ln w="0">
            <a:noFill/>
          </a:ln>
        </p:spPr>
        <p:txBody>
          <a:bodyPr lIns="50760" rIns="27720" tIns="50760" bIns="50760" anchor="t">
            <a:normAutofit/>
          </a:bodyPr>
          <a:p>
            <a:pPr marL="379440" indent="-341280">
              <a:lnSpc>
                <a:spcPct val="100000"/>
              </a:lnSpc>
              <a:buClr>
                <a:srgbClr val="996600"/>
              </a:buClr>
              <a:buFont typeface="Wingdings" charset="2"/>
              <a:buChar char=""/>
              <a:tabLst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9728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2712"/>
                </a:solidFill>
                <a:latin typeface="Arial"/>
              </a:rPr>
              <a:t>A piece of land surrounded by water on 3 s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105520" y="1600200"/>
            <a:ext cx="388620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240" y="227160"/>
            <a:ext cx="7543800" cy="1753920"/>
          </a:xfrm>
          <a:prstGeom prst="rect">
            <a:avLst/>
          </a:prstGeom>
          <a:noFill/>
          <a:ln w="0">
            <a:noFill/>
          </a:ln>
        </p:spPr>
        <p:txBody>
          <a:bodyPr lIns="50760" rIns="32040" tIns="50760" bIns="50760" anchor="ctr">
            <a:noAutofit/>
          </a:bodyPr>
          <a:p>
            <a:pPr marL="41400" indent="0" algn="ctr">
              <a:lnSpc>
                <a:spcPct val="100000"/>
              </a:lnSpc>
              <a:buNone/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972800"/>
              </a:tabLst>
            </a:pPr>
            <a:r>
              <a:rPr b="0" lang="en-US" sz="4400" spc="-1" strike="noStrike">
                <a:solidFill>
                  <a:srgbClr val="0044fe"/>
                </a:solidFill>
                <a:latin typeface="Arial"/>
              </a:rPr>
              <a:t>Island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1980720"/>
            <a:ext cx="373392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27720" tIns="50760" bIns="50760" anchor="t">
            <a:normAutofit/>
          </a:bodyPr>
          <a:p>
            <a:pPr marL="379440" indent="-341280">
              <a:lnSpc>
                <a:spcPct val="100000"/>
              </a:lnSpc>
              <a:buClr>
                <a:srgbClr val="996600"/>
              </a:buClr>
              <a:buFont typeface="Wingdings" charset="2"/>
              <a:buChar char=""/>
              <a:tabLst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9728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 piece  of land that is surrounded by water on all sid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181480" y="2590920"/>
            <a:ext cx="3505320" cy="3962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onnie Campbell</dc:creator>
  <dc:description/>
  <dc:language>en-US</dc:language>
  <cp:lastModifiedBy/>
  <cp:revision>0</cp:revision>
  <dc:subject/>
  <dc:title>Map Elements for Fun and Profit</dc:title>
</cp:coreProperties>
</file>